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E031-5694-46FC-8A68-C10B98C8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CF8-8D4F-4397-B71A-051A7118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DA3-B422-4F61-A7D0-DB438777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212-21FD-4E8D-BDCC-82C2F48B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053C-6BAE-4BCD-A12B-987BE227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8BFC-168F-434B-8BC1-EDBB046A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CD3B-D7FA-43CB-AF7B-2BFA6538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119D-2DD3-422A-8E83-9E1CEF44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7B0D-69A6-463B-AA67-795C779F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59BA-F747-4FBB-8D03-8196857B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7406-2819-4CB7-AA22-F89B76D2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7B0-5980-492E-91EB-5E2688BD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32F3-C4CF-48FA-A502-446A22C5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8650-06E9-40C6-96E9-49263CD3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63E0-FD4C-4B54-962B-7F425CC1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F003-7ED2-404E-8589-B92CFF4C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2255-2492-4B88-B987-1E01E351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3054D-4138-4C8C-B8B3-23C4FE63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9458-6C2C-4A08-8B42-531BE3D5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79D61-8F19-4145-A853-554F7BCA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2D158-588A-4BB3-9751-BB05AE8C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7B975-951C-4CFE-AAE1-BDCAC612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F3F-FFF0-41DD-8DB3-F12D2E81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009C0-87B1-423C-8E21-384F8119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0ECD-39FA-4EDC-AF59-EF3B1E7A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BBCB-F3FA-4DF9-9BA9-74C937BA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CD32-A714-48D8-846C-5EFBE77B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EB58-EAD2-4004-95CF-BA9CB814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986B6-E4CE-434C-8C82-FDDCCCD2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8A9B5-02AF-40DE-91C3-D88878AC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241EC-443A-47D1-92E7-D00120D4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1A326-B608-454E-B8A4-C9DFF9F3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EF035-DBBF-446B-A5A9-932F6911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C71-7BF9-4648-BE1B-F8BCEE41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24973-CCD1-4753-B1B2-4E125DF2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401CA-773F-4551-86C6-24D24202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90967-8053-4563-A7AE-DA1A9AF2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E7A8F-DBE1-4ECB-923A-D60EE2DF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71315-4E6B-4F3D-AFCA-04213D55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14DFE-4464-4885-8556-EE078AA7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FD088-2833-47FC-B22A-2E71D9AC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22BEF-2373-4ABD-83D7-F7A262FD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7404-439F-4080-97EE-480780F3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8D2-94FB-4082-9CFA-97D70F7C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BF1-0F5E-4DC7-8316-AF2C8A33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285-1BF2-4F9C-A7B1-44568A62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F04-CB26-4722-8584-656F8590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95A-0687-4CF3-9573-4AE7AE9E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7F49-4690-4A8F-9840-DBA033FD4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1C72-C457-49E4-872B-EB985D089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7E66-EBE3-438F-988F-BBA5B4F206DD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4A00-9D34-49C6-8C37-FBDBC62233EA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8edf2"/>
                </a:solidFill>
                <a:latin typeface="Tahoma"/>
              </a:rPr>
              <a:t>Tema Proiec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renume Nume Responsabil şi Membrii Grup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8edf2"/>
                </a:solidFill>
                <a:latin typeface="Tahoma"/>
              </a:rPr>
              <a:t>Cuprins: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ntroduc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upr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Închei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oncluz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8edf2"/>
                </a:solidFill>
                <a:latin typeface="Tahoma"/>
              </a:rPr>
              <a:t>Introducer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8edf2"/>
                </a:solidFill>
                <a:latin typeface="Tahoma"/>
              </a:rPr>
              <a:t>Cuprin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8edf2"/>
                </a:solidFill>
                <a:latin typeface="Tahoma"/>
              </a:rPr>
              <a:t>Încheier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8edf2"/>
                </a:solidFill>
                <a:latin typeface="Tahoma"/>
              </a:rPr>
              <a:t>Concluzii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8a8700"/>
                </a:solidFill>
                <a:latin typeface="Arial Black"/>
              </a:rPr>
              <a:t>Resurse: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cf48c"/>
                </a:solidFill>
                <a:latin typeface="Trebuchet MS"/>
              </a:rPr>
              <a:t>Enumeraţi numele şi adresele site-urilor de resurse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2:26:21Z</dcterms:created>
  <dc:creator>Claudia</dc:creator>
  <dc:description/>
  <dc:language>en-US</dc:language>
  <cp:lastModifiedBy>Claudia</cp:lastModifiedBy>
  <dcterms:modified xsi:type="dcterms:W3CDTF">2007-11-04T12:36:38Z</dcterms:modified>
  <cp:revision>1</cp:revision>
  <dc:subject/>
  <dc:title>Tema Proiect</dc:title>
</cp:coreProperties>
</file>